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31F-2A11-4CF9-BE4C-1156D286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C58-41FA-4AFC-8722-116BCCD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FAC-BEAF-4B95-BF1F-9386E7AD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159-BF9F-411F-A7D8-5A9A03DF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0A23-CEAE-4AB8-8FDD-656C25B7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34B-837A-4B13-A5A2-190614B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F65A-96EE-43B4-B470-FDC2F678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BA6A-B3F5-41D4-AFA8-DA7E8526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406-AE05-4F31-9730-320954A2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50A-13F6-443A-94B7-684D869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563B-7117-4D4A-934A-1FF7A21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59B-8F3F-45E1-8A34-8C0F3B98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C22-9957-4BBD-B786-90A28E42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554-4904-4D05-AD9E-506C69B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C89-8667-409E-B4B7-95840660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72F6-B0BD-4E55-8144-187B3453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F5F-0FD6-4C5D-A1C9-31C9F84D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CF5-7CF1-4115-810A-25867303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E0F-CE7B-4425-9926-11D3010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764-719E-4A3E-8DFF-F3D59F94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C92-DAB6-4C87-A2C5-A854DE37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A9B-0E3F-4F2C-A23E-F1492B4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1F2-F2CA-4744-B661-1C77C226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53F-532E-4349-B1BA-0D7C98C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1DA-6A64-424E-9FEC-3FBB6A0E0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1FD4-678A-4F3E-A6A8-56201223687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hinkexist.com/quotation/if_you_can-t_take_the_heat-don-t_tickle_the/339980.html" TargetMode="External"/><Relationship Id="rId2" Type="http://schemas.openxmlformats.org/officeDocument/2006/relationships/hyperlink" Target="http://thinkexist.com/quotation/if_you_can-t_take_the_heat-don-t_tickle_the/339980.html" TargetMode="External"/><Relationship Id="rId3" Type="http://schemas.openxmlformats.org/officeDocument/2006/relationships/hyperlink" Target="http://thinkexist.com/quotation/if_you_can-t_take_the_heat-don-t_tickle_the/339980.html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oks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teresting ways to start your essay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esting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ve you ever wondered if a Dragon could kill a Monster in a figh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 you believe Dragons and Monsters are real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long can a Dragon or Monster live? According to my research, I’ve discovered that they can live for hundreds of years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um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I was little, I peed my pants in my sleep because I was so scared of the Monsters under my b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esting Stat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ragons and Monsters are some of the most interesting imaginary creatures in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millions of different kinds of Dragons and Monste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o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If you can't take the heat, don't tickle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dragon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” (anonymous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ddle not in the affairs of the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rag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; for you are crunchy and taste good with ketchup.” (anonymou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ver 5 million children in the world believe in Dragons and Monst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2007, another Harry Potter movie came out and made Dragons and Monsters popular agai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ecdo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I was little, I used to dream about flying on the back of a Drag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I was 5 years old, I got to be a Dragon for Halloween. I ran around, pretending to blow fire on peopl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1:21:15Z</dcterms:created>
  <dc:creator>SCUSD</dc:creator>
  <dc:description/>
  <dc:language>en-US</dc:language>
  <cp:lastModifiedBy>Chrissi Ritzius</cp:lastModifiedBy>
  <dcterms:modified xsi:type="dcterms:W3CDTF">2010-05-24T15:31:32Z</dcterms:modified>
  <cp:revision>3</cp:revision>
  <dc:subject/>
  <dc:title>Hooks!!</dc:title>
</cp:coreProperties>
</file>